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24.wmf" ContentType="image/x-wmf"/>
  <Override PartName="/ppt/media/image23.jpeg" ContentType="image/jpe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EA3-9A30-4001-AD72-F2C66E0E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59D-AE41-45B7-9BA1-D5B531F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BE1-C74B-4543-8E89-5F5FFFF3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4DE-A0FD-4F9E-8149-C110528C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3B7-ED3E-4002-A1B7-837894C8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7DCA-5779-4C38-A0FF-596BB0C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2C8F-8726-4B53-A38C-BE27D12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2CF6-22BF-495C-810D-CDC0AECB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86CB-9BBF-4218-8DEE-C54D31B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6323-A0FF-4496-B468-8CA26CD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DE2-F8F6-431B-8EB9-6783452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3C8-4B2E-4094-8784-16CA180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982-E850-4A98-A1F3-626253E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321-9D94-43DF-AA1E-F8C1EE65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032-4DFB-4DDA-9683-DAD27DFD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EB3D-A58D-493F-AFF7-1132AD07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E38-8E5A-4C50-84F3-C576EDBF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A81-4162-4FAB-90A4-BC0369F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1B5-BAF1-42C1-BFCE-588AC0F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0E8-29E5-4B8C-8142-55358F6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115-6EBD-489E-B6AF-8B2E17C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31C-4A99-41CB-B320-789FB75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BAB-5374-4663-8BB1-1DA792C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0BD-C95A-47CC-8D71-106CE73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EF1-82EE-4009-AD4D-5E669F5137A6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5D9-31E4-4AD2-A36A-71489A10B06A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 Like Where I Am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Vocabulary and Amazing Word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Grade Reading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Picture 5" descr="MCj04339180000[1]"/>
          <p:cNvPicPr/>
          <p:nvPr/>
        </p:nvPicPr>
        <p:blipFill>
          <a:blip r:embed="rId1"/>
          <a:stretch/>
        </p:blipFill>
        <p:spPr>
          <a:xfrm>
            <a:off x="762120" y="1143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gle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reat happiness or jo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6" name="Picture 4" descr="MPj03992870000[1]"/>
          <p:cNvPicPr/>
          <p:nvPr/>
        </p:nvPicPr>
        <p:blipFill>
          <a:blip r:embed="rId1"/>
          <a:stretch/>
        </p:blipFill>
        <p:spPr>
          <a:xfrm>
            <a:off x="3581280" y="29718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76960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60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usually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omething that commonly happen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0" name="Picture 4" descr="MCj04363460000[1]"/>
          <p:cNvPicPr/>
          <p:nvPr/>
        </p:nvPicPr>
        <p:blipFill>
          <a:blip r:embed="rId1"/>
          <a:stretch/>
        </p:blipFill>
        <p:spPr>
          <a:xfrm>
            <a:off x="3962520" y="293364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a867b"/>
                </a:solidFill>
                <a:latin typeface="Tahoma"/>
              </a:rPr>
              <a:t>Amazing Words</a:t>
            </a:r>
            <a:endParaRPr b="0" lang="en-US" sz="6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djus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landmark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unexpected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eas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quiver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oreign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ccen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orlorn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adjus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get used to a new situatio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6" name="Picture 5" descr="MCj02809240000[1]"/>
          <p:cNvPicPr/>
          <p:nvPr/>
        </p:nvPicPr>
        <p:blipFill>
          <a:blip r:embed="rId1"/>
          <a:stretch/>
        </p:blipFill>
        <p:spPr>
          <a:xfrm>
            <a:off x="2971800" y="4114800"/>
            <a:ext cx="3209760" cy="102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landmark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ahoma"/>
              </a:rPr>
              <a:t>Any natural or human-made feature such as a building, a statue, a bridge, or a tree that identifies a location and can serve as a guide for directions.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9" name="Picture 5" descr="MCj04363740000[1]"/>
          <p:cNvPicPr/>
          <p:nvPr/>
        </p:nvPicPr>
        <p:blipFill>
          <a:blip r:embed="rId1"/>
          <a:stretch/>
        </p:blipFill>
        <p:spPr>
          <a:xfrm>
            <a:off x="7621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MPj04140560000[1]"/>
          <p:cNvPicPr/>
          <p:nvPr/>
        </p:nvPicPr>
        <p:blipFill>
          <a:blip r:embed="rId2"/>
          <a:stretch/>
        </p:blipFill>
        <p:spPr>
          <a:xfrm>
            <a:off x="3352680" y="426708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Cj04239900000[1]"/>
          <p:cNvPicPr/>
          <p:nvPr/>
        </p:nvPicPr>
        <p:blipFill>
          <a:blip r:embed="rId3"/>
          <a:stretch/>
        </p:blipFill>
        <p:spPr>
          <a:xfrm>
            <a:off x="6553080" y="4038480"/>
            <a:ext cx="1559160" cy="1784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unexpected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Comes as a surprise or something you do not think will happe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4" name="Picture 4" descr="MCj03118140000[1]"/>
          <p:cNvPicPr/>
          <p:nvPr/>
        </p:nvPicPr>
        <p:blipFill>
          <a:blip r:embed="rId1"/>
          <a:stretch/>
        </p:blipFill>
        <p:spPr>
          <a:xfrm>
            <a:off x="5486400" y="4038480"/>
            <a:ext cx="2743200" cy="1914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34760000[1]"/>
          <p:cNvPicPr/>
          <p:nvPr/>
        </p:nvPicPr>
        <p:blipFill>
          <a:blip r:embed="rId2"/>
          <a:stretch/>
        </p:blipFill>
        <p:spPr>
          <a:xfrm>
            <a:off x="1219320" y="4114800"/>
            <a:ext cx="1120680" cy="17971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eas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make fun of another person in a playful or hurtful wa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7848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CBD09359_0000[1]"/>
          <p:cNvPicPr/>
          <p:nvPr/>
        </p:nvPicPr>
        <p:blipFill>
          <a:blip r:embed="rId2"/>
          <a:stretch/>
        </p:blipFill>
        <p:spPr>
          <a:xfrm>
            <a:off x="5638680" y="3962520"/>
            <a:ext cx="1792440" cy="1711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98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quiver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hakes quickly with movements or sound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2" name="Picture 5" descr="MCj04298350000[1]"/>
          <p:cNvPicPr/>
          <p:nvPr/>
        </p:nvPicPr>
        <p:blipFill>
          <a:blip r:embed="rId1"/>
          <a:stretch/>
        </p:blipFill>
        <p:spPr>
          <a:xfrm>
            <a:off x="3429000" y="4114800"/>
            <a:ext cx="1838160" cy="1542960"/>
          </a:xfrm>
          <a:prstGeom prst="rect">
            <a:avLst/>
          </a:prstGeom>
          <a:ln w="0">
            <a:noFill/>
          </a:ln>
        </p:spPr>
      </p:pic>
      <p:pic>
        <p:nvPicPr>
          <p:cNvPr id="143" name="MacOS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38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oreign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A country that is not your ow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6" name="Picture 4" descr="MPj04340430000[1]"/>
          <p:cNvPicPr/>
          <p:nvPr/>
        </p:nvPicPr>
        <p:blipFill>
          <a:blip r:embed="rId1"/>
          <a:stretch/>
        </p:blipFill>
        <p:spPr>
          <a:xfrm>
            <a:off x="3124080" y="33526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accen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867b"/>
                </a:solidFill>
                <a:latin typeface="Tahoma"/>
              </a:rPr>
              <a:t>When someone pronounces words in a way that is heard in a different part of the country or in a foreign country.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a867b"/>
                </a:solidFill>
                <a:latin typeface="Tahoma"/>
              </a:rPr>
              <a:t>Vocabulary</a:t>
            </a:r>
            <a:endParaRPr b="0" lang="en-US" sz="6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roubl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iant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chuckl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fair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trong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block 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ears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glee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usually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orlorn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Lonely and sad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1" name="Picture 4" descr="MCj00788010000[1]"/>
          <p:cNvPicPr/>
          <p:nvPr/>
        </p:nvPicPr>
        <p:blipFill>
          <a:blip r:embed="rId1"/>
          <a:stretch/>
        </p:blipFill>
        <p:spPr>
          <a:xfrm>
            <a:off x="3733920" y="3352680"/>
            <a:ext cx="1757160" cy="2281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roubl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Something that is difficult or upsetting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2" name="Picture 4" descr="MCj02320490000[1]"/>
          <p:cNvPicPr/>
          <p:nvPr/>
        </p:nvPicPr>
        <p:blipFill>
          <a:blip r:embed="rId1"/>
          <a:stretch/>
        </p:blipFill>
        <p:spPr>
          <a:xfrm>
            <a:off x="4191120" y="3048120"/>
            <a:ext cx="2819160" cy="308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giant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Very large or huge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5" name="Picture 5" descr="MCj03536350000[1]"/>
          <p:cNvPicPr/>
          <p:nvPr/>
        </p:nvPicPr>
        <p:blipFill>
          <a:blip r:embed="rId1"/>
          <a:stretch/>
        </p:blipFill>
        <p:spPr>
          <a:xfrm>
            <a:off x="2666880" y="2895480"/>
            <a:ext cx="3835440" cy="3019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chuckle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To laugh quietly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83059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Cj04338220000[1]"/>
          <p:cNvPicPr/>
          <p:nvPr/>
        </p:nvPicPr>
        <p:blipFill>
          <a:blip r:embed="rId2"/>
          <a:stretch/>
        </p:blipFill>
        <p:spPr>
          <a:xfrm>
            <a:off x="3657600" y="2971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4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fair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Just and by the rules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Picture 4" descr="MCj03907920000[1]"/>
          <p:cNvPicPr/>
          <p:nvPr/>
        </p:nvPicPr>
        <p:blipFill>
          <a:blip r:embed="rId1"/>
          <a:stretch/>
        </p:blipFill>
        <p:spPr>
          <a:xfrm>
            <a:off x="2819520" y="3124080"/>
            <a:ext cx="3044880" cy="2265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strong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Having great power or strength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Picture 4" descr="MCj01403950000[1]"/>
          <p:cNvPicPr/>
          <p:nvPr/>
        </p:nvPicPr>
        <p:blipFill>
          <a:blip r:embed="rId1"/>
          <a:stretch/>
        </p:blipFill>
        <p:spPr>
          <a:xfrm>
            <a:off x="3581280" y="2949480"/>
            <a:ext cx="3276720" cy="2741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block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Part of a city or town.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8" name="Picture 4" descr="MCj04342330000[1]"/>
          <p:cNvPicPr/>
          <p:nvPr/>
        </p:nvPicPr>
        <p:blipFill>
          <a:blip r:embed="rId1"/>
          <a:stretch/>
        </p:blipFill>
        <p:spPr>
          <a:xfrm>
            <a:off x="2666880" y="3048120"/>
            <a:ext cx="4273560" cy="266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867b"/>
                </a:solidFill>
                <a:latin typeface="Tahoma"/>
              </a:rPr>
              <a:t>tears</a:t>
            </a:r>
            <a:endParaRPr b="0" lang="en-US" sz="6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867b"/>
                </a:solidFill>
                <a:latin typeface="Tahoma"/>
              </a:rPr>
              <a:t>Drops of salty water that come from your eyes</a:t>
            </a:r>
            <a:endParaRPr b="0" lang="en-US" sz="4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1" name="Picture 4" descr="MMj02827410000[1]"/>
          <p:cNvPicPr/>
          <p:nvPr/>
        </p:nvPicPr>
        <p:blipFill>
          <a:blip r:embed="rId1"/>
          <a:stretch/>
        </p:blipFill>
        <p:spPr>
          <a:xfrm>
            <a:off x="6172200" y="3733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Mj02840940000[1]"/>
          <p:cNvPicPr/>
          <p:nvPr/>
        </p:nvPicPr>
        <p:blipFill>
          <a:blip r:embed="rId2"/>
          <a:stretch/>
        </p:blipFill>
        <p:spPr>
          <a:xfrm>
            <a:off x="1295280" y="3657600"/>
            <a:ext cx="2151360" cy="2219400"/>
          </a:xfrm>
          <a:prstGeom prst="rect">
            <a:avLst/>
          </a:prstGeom>
          <a:ln w="0">
            <a:noFill/>
          </a:ln>
        </p:spPr>
      </p:pic>
      <p:pic>
        <p:nvPicPr>
          <p:cNvPr id="113" name="MacOS" descr=""/>
          <p:cNvPicPr/>
          <p:nvPr/>
        </p:nvPicPr>
        <p:blipFill>
          <a:blip r:embed="rId3"/>
          <a:stretch/>
        </p:blipFill>
        <p:spPr>
          <a:xfrm>
            <a:off x="83059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33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2:01:36Z</dcterms:created>
  <dc:creator> </dc:creator>
  <dc:description/>
  <cp:keywords/>
  <dc:language>en-US</dc:language>
  <cp:lastModifiedBy>Laura McDow</cp:lastModifiedBy>
  <dcterms:modified xsi:type="dcterms:W3CDTF">2010-07-29T10:10:27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33</vt:lpwstr>
  </property>
</Properties>
</file>